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0A1-A489-4410-A7A1-87002CAF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1AD4-CF5A-42F6-9930-33FCBC96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74B9-9EA1-4CEF-BE93-CF329296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0B1-B696-40F4-96C7-692DBB46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92E-2242-47F4-837E-A765E029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C29F-476D-4CA6-A9BC-B362F246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FC6-A15F-4692-A8BD-6BF02309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E32-8805-4EFB-A1F1-31A1B396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37AB-8667-4026-9AF2-66488276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1E9-27AB-4C7E-8540-29FFAECF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6F49-9316-4FE8-864C-295655B3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0554-6F1A-48D9-9CC6-3C96F778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2CAC-8671-41AD-B73D-9BC6C56DDAD7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2FFF-94FD-465F-A13C-CE9DBBD95BED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54080" y="3035880"/>
            <a:ext cx="8648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实验活动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7   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溶液酸碱性的检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628640"/>
            <a:ext cx="90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十单元 酸和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2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3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4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5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>
            <a:off x="1027080" y="1227240"/>
            <a:ext cx="700092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问题交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你自制的指示剂检验溶液酸碱性的效果如何？了解其他组同学自制的指示剂的检验效果，哪种植物制成的指示剂效果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归纳自制的指示剂在酸、碱溶液中的颜色变化情况，与同学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83"/>
          <p:cNvSpPr/>
          <p:nvPr/>
        </p:nvSpPr>
        <p:spPr>
          <a:xfrm>
            <a:off x="1176480" y="2617920"/>
            <a:ext cx="749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初步学会用酸碱指示剂检验溶液的酸碱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初步学会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纸测定溶液的酸碱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079"/>
          <p:cNvSpPr/>
          <p:nvPr/>
        </p:nvSpPr>
        <p:spPr>
          <a:xfrm>
            <a:off x="1432440" y="1554120"/>
            <a:ext cx="163116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实验目的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187280" y="2979720"/>
            <a:ext cx="749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仪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烧杯、试管、研钵、玻璃棒、胶头滴管、纱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药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蒸馏水、酒精、酚酞溶液、石蕊溶液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纸、植物的花瓣或果实、土壤样品、食醋、蔗糖溶液、草木灰水、肥皂水、石灰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5606"/>
          <p:cNvSpPr/>
          <p:nvPr/>
        </p:nvSpPr>
        <p:spPr>
          <a:xfrm>
            <a:off x="1432440" y="1770120"/>
            <a:ext cx="163116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实验用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042920" y="1052640"/>
            <a:ext cx="74995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实验活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自制酸碱指示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别取牵牛花、万寿菊、胡萝卜、玫瑰的花瓣或果实在研钵中捣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入酒精浸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纱布将浸泡出的汁液过滤或挤出。并分别做好标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选择生活中的食醋、蔗糖溶液、草木灰水、肥皂水、石灰水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进行下列实验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盛有以上几种溶液的试管中分别滴加酚酞溶液和石蕊溶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观察颜色的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104840" y="1938240"/>
            <a:ext cx="749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纸测定食醋、蔗糖溶液、草木灰水、肥皂水、石灰水五种溶液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验自制的指示剂在食醋、蔗糖溶液、草木灰水、肥皂水、石灰水五种溶液中的颜色变化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74680" y="673200"/>
            <a:ext cx="854712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实验现象与记录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酚酞滴加在食醋、蔗糖溶液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滴加在草木灰水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肥皂水、石灰水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石蕊滴加在食醋溶液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滴加在蔗糖溶液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滴加在草木灰水、肥皂水、石灰水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食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蔗糖溶液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草木灰水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肥皂水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石灰水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573440" y="1468800"/>
            <a:ext cx="124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不变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701800" y="2261160"/>
            <a:ext cx="124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变红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710160" y="2981880"/>
            <a:ext cx="1241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变红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165800" y="2981880"/>
            <a:ext cx="124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不变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186520" y="3700800"/>
            <a:ext cx="1241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变蓝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981080" y="4421520"/>
            <a:ext cx="561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5113440" y="4489920"/>
            <a:ext cx="393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8116920" y="4416840"/>
            <a:ext cx="561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378160" y="5208840"/>
            <a:ext cx="561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5235480" y="5156640"/>
            <a:ext cx="561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042920" y="981000"/>
            <a:ext cx="74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制的指示剂在溶液中颜色的变化如表所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176480" y="1838160"/>
          <a:ext cx="7026120" cy="3895560"/>
        </p:xfrm>
        <a:graphic>
          <a:graphicData uri="http://schemas.openxmlformats.org/drawingml/2006/table">
            <a:tbl>
              <a:tblPr/>
              <a:tblGrid>
                <a:gridCol w="1281240"/>
                <a:gridCol w="1596960"/>
                <a:gridCol w="1280880"/>
                <a:gridCol w="2867040"/>
              </a:tblGrid>
              <a:tr h="1201680"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植物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汁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在食醋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在蔗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溶液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在草木灰水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肥皂水、石灰水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牵牛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红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紫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蓝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万寿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黄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黄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黄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胡萝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橙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橙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橙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玫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浅红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浅红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绿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54000" y="549360"/>
            <a:ext cx="8190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实验结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食醋的溶液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,pH___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使石蕊溶液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酞溶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蔗糖的溶液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,pH___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能使石蕊溶液和酚酞溶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草木灰水、肥皂水、石灰水的溶液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,pH___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石蕊溶液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酚酞溶液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汁液可用作酸碱指示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汁液不能用作酸碱指示剂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987640" y="1200600"/>
            <a:ext cx="1349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酸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303800" y="1319760"/>
            <a:ext cx="844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&lt;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877080" y="1200600"/>
            <a:ext cx="1349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红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476360" y="1776960"/>
            <a:ext cx="186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不变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2916360" y="2360880"/>
            <a:ext cx="1349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中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356000" y="2400840"/>
            <a:ext cx="844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=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940360" y="3408840"/>
            <a:ext cx="1349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碱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7380360" y="3480120"/>
            <a:ext cx="844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&gt;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268360" y="3984840"/>
            <a:ext cx="1349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蓝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003640" y="3984840"/>
            <a:ext cx="1349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红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042920" y="4511880"/>
            <a:ext cx="186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牵牛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484360" y="4511880"/>
            <a:ext cx="1349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玫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6588000" y="4511880"/>
            <a:ext cx="1860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万寿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755640" y="5088240"/>
            <a:ext cx="1349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胡萝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07920" y="1397160"/>
            <a:ext cx="820116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检测土壤的酸碱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实验步骤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校园或农田里取少量土壤样品。将土壤样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蒸馏水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∶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质量比在烧杯中混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分搅拌后静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纸测澄清液体的酸碱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实验记录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澄清液体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实验结论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校园或农田土壤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851360" y="3578400"/>
            <a:ext cx="8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076720" y="4154760"/>
            <a:ext cx="8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3:59:32Z</dcterms:created>
  <dc:creator/>
  <dc:description/>
  <dc:language>en-US</dc:language>
  <cp:lastModifiedBy>Administrator</cp:lastModifiedBy>
  <dcterms:modified xsi:type="dcterms:W3CDTF">2019-01-08T00:58:01Z</dcterms:modified>
  <cp:revision>3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